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C52-ACE4-4C37-B6EA-15772996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6A0-D7A3-4B71-80F2-84507F8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304-DF04-4FCD-BBD3-2BA3B23A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5C3-4A5B-4A84-9245-3F27C629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FEC-819A-4E43-A772-6992D53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1BA-B5FD-491F-A179-15B3A7D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2FF-8A2F-4CFA-B65D-25B4C8D9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07E-EF6A-4A0E-86D6-7D957BE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0E4-B805-4584-BF75-51C915F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465-8EE5-427B-879A-8BAB459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FEC-26EF-4CDE-96F5-9CD52E1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390-FFDF-487C-831D-D223177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8E55-CBCD-47C0-A646-BAC4FBF3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ivilization took over Ancient Egypt during the Middle King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3920" y="2971800"/>
            <a:ext cx="26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yk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f the organs had to be re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PT for the heart, 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ained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3152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eeded to happen to the organs before a pharaoh could be mummified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88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hoaroah joined Upper and Lower Egypt for the firs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three cities that were created during Mesopotamian ti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19320" y="287640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er, Akkad, Baby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362320"/>
            <a:ext cx="7162920" cy="3504960"/>
          </a:xfrm>
          <a:prstGeom prst="wedgeRectCallout">
            <a:avLst>
              <a:gd name="adj1" fmla="val -21231"/>
              <a:gd name="adj2" fmla="val 525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"/>
            <a:ext cx="7162920" cy="1937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cient times Egypt was divided into _______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y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7520" y="2971800"/>
            <a:ext cx="559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s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per and Lower Egyp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aoh Kufu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reat Pyramid built f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981080"/>
            <a:ext cx="7162920" cy="312444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means they believed in more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cient Egyptians were polytheistic, what does that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162560" cy="3505320"/>
          </a:xfrm>
          <a:prstGeom prst="wedgeRectCallout">
            <a:avLst>
              <a:gd name="adj1" fmla="val -21231"/>
              <a:gd name="adj2" fmla="val 52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mmurabi created th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r uniform code of laws. 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s extremely important bec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first time all city –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d the same basic ru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Hammurabi’s code of laws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itizens of Egypt and Mesopotamia called if they could wr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mummy of King Tut.  It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important because it wa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touched and preserved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hing missing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mmy of which Pharaoh was found in 1922 by Howard Car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is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mmies and Pyram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roahs and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286000"/>
            <a:ext cx="7162560" cy="3429000"/>
          </a:xfrm>
          <a:prstGeom prst="wedgeRectCallout">
            <a:avLst>
              <a:gd name="adj1" fmla="val -21231"/>
              <a:gd name="adj2" fmla="val 4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name of the Sun God in Ancient Egp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133720"/>
            <a:ext cx="7162560" cy="3657600"/>
          </a:xfrm>
          <a:prstGeom prst="wedgeRectCallout">
            <a:avLst>
              <a:gd name="adj1" fmla="val -21231"/>
              <a:gd name="adj2" fmla="val 2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kkad was the only empire. 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re no separate city – sta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28600"/>
            <a:ext cx="708660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period of Akkad there was something very different than what existed in Sumer and Babylon.  What wa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523880"/>
            <a:ext cx="7086600" cy="4267440"/>
          </a:xfrm>
          <a:prstGeom prst="wedgeRectCallout">
            <a:avLst>
              <a:gd name="adj1" fmla="val -21999"/>
              <a:gd name="adj2" fmla="val 45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helped the Mesopotam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track of the trade of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s, and allowed them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unicate through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for the first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cuneiform writing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0492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8098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066680"/>
            <a:ext cx="769608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tory of Isis and Osiris what FOUR main characters were involved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relationship between these four charac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is considered “the bad guy” because he committed a mur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828800"/>
            <a:ext cx="7162920" cy="3581280"/>
          </a:xfrm>
          <a:prstGeom prst="wedgeRectCallout">
            <a:avLst>
              <a:gd name="adj1" fmla="val -21231"/>
              <a:gd name="adj2" fmla="val 62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.  Because they mumm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ir de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the people of Ancient Egypt believe in an after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, how do we know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371600"/>
            <a:ext cx="7162920" cy="4038480"/>
          </a:xfrm>
          <a:prstGeom prst="wedgeRectCallout">
            <a:avLst>
              <a:gd name="adj1" fmla="val -38254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haro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had all of the power in the Old Kingdom of Ancient Egy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igris and Euphra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wo rivers surrounded Mesopotam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nei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572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sopotamia their writing was called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mbs of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gyptians, such as pharaoh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put INSIDE pyram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-39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ey could be preser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gnized by the god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id ancient Egyptians mummify peo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752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lass housing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st,then midd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housing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irst class housing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st to the center of the 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order of housing in ancient Mesopota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0-23T13:35:53Z</dcterms:modified>
  <cp:revision>6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